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DD7-3F5A-4B7A-9DBF-22B9A2C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E85-4AD1-4DBE-B4AC-BB7C839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14B-F5F2-4D74-BBF7-19A3E995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EF3-38F6-483B-988D-6D47480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84F-5F6F-4B71-BDBE-2E0F363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D791-D5AA-47C7-AE74-1C6DAD7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A652-015A-4844-99DA-DBA45F2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4C8E-D3FC-4DCB-8E99-693CA1C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A87A-20B5-41F5-BF58-BE13EFF8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E5C-44B2-4DD7-9F47-D8DFED98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461-BA3F-4206-9760-B459002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801-DA55-4D5F-B067-0565F3B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A97B-091A-40F2-B30A-AF8B191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4B8C-3F15-4391-926B-F1D2C82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37BD-70A2-42A7-8CC0-A3BDB16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636F-F52D-4BBF-B424-7552EBA7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7E3-CFEA-401C-828D-2584587D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EC5-A2A0-451E-9A2F-72ED757E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0E0-D8A7-40B3-95E1-8DE28F2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9DA-F845-4F3A-8DD0-AC880613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A46-F082-43F5-AD09-A97C853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CCE-C1C5-48AB-81D5-7A79E3D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597-6E6B-4A9E-BF32-8D01DB8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B92-F02C-4CCB-BF52-B8C0DEA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3F0-5425-47B3-BF10-148B691B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3BE1-90DA-40F2-8E59-5F81CA72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-14400"/>
            <a:ext cx="8675640" cy="687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1341000"/>
            <a:ext cx="3456000" cy="79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생리학 혁명</a:t>
            </a:r>
            <a:endParaRPr b="1" lang="en-US" sz="40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‘</a:t>
            </a: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혈액순환’의 아이디어는 어디서</a:t>
            </a:r>
            <a:r>
              <a:rPr b="1" lang="en-US" sz="3800" spc="-1" strike="noStrike">
                <a:solidFill>
                  <a:srgbClr val="cc0000"/>
                </a:solidFill>
                <a:latin typeface="Microsoft Sans Serif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정량적 방법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실험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제 피의 흐름을 정밀하게 측정한 것 아님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실험은 이미 고안된 이론을 시험하기 위함이었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계적 철학의 영향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체의 기능을 분리해서 생각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즉 혈관계의 역할에만 주목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펌프로서의 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하비는 기계적 철학에 비판적이었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아리스토텔레스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기상학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&gt;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의 기상 순환 모형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매일 흐르는 물의 양을 고려할 때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1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년간의 총량은 지구전체만큼 될 것임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 유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에 의한 물의 증발 → 공기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공기의 냉각 → 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르네상스 자연주의 마술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Microsoft Sans Serif"/>
              </a:rPr>
              <a:t>연금술</a:t>
            </a:r>
            <a:endParaRPr b="1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은 소우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인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의 태양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태양은 대우주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세계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의 심장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맥혈의 동맥혈로의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perfection (≒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정화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purification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Microsoft Sans Serif"/>
              </a:rPr>
              <a:t>과학혁명기의 생리학과 해부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학문적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교화적 도덕적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축제 기간의 해부학 공개 강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인생무상의 도덕적 의미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프레데릭 라이쉬의 진열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아기와 태아의 해골무리 → 삶의 무상함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인간의 삶은 그저 게임일 뿐이다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i="1" lang="ko-KR" sz="2200" spc="-1" strike="noStrike">
                <a:solidFill>
                  <a:srgbClr val="000000"/>
                </a:solidFill>
                <a:latin typeface="Microsoft Sans Serif"/>
              </a:rPr>
              <a:t>vita humana lusus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자연신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나는 이제 이의 해부체 속에서 하느님의 전능하신 손길이 현현하심을 당신에게 설명하는 바이니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그 해부체 속에서 당신은 경이로움이 경이로움 위에 쌓여 있음을 알게 될 것이고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하나의 미세한 입자 속에도 하느님의 지혜가 분명히 드러나 있음을 발견하게 될 것입니다”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스왐메르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-14400"/>
            <a:ext cx="86756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222800" cy="597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254480" y="404640"/>
            <a:ext cx="4889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 이후의 생리학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하비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갈레노스에서 여전히 크게 벗어나지 못했음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생명의 열’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, ‘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생기’와 같은 개념 유지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7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 생리학 발전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모세혈관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순환의 말단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의 발견과 폐의 기능 발견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데카르트식의 인체에 대한 기계적 설명 유행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8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기체 이론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화학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의 발전과 함께 호흡 이론 발전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19</a:t>
            </a:r>
            <a:r>
              <a:rPr b="1" lang="ko-KR" sz="3000" spc="-1" strike="noStrike">
                <a:solidFill>
                  <a:srgbClr val="000000"/>
                </a:solidFill>
                <a:latin typeface="Microsoft Sans Serif"/>
              </a:rPr>
              <a:t>세기</a:t>
            </a:r>
            <a:endParaRPr b="1" lang="en-US" sz="3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진화론 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600" spc="-1" strike="noStrike">
                <a:solidFill>
                  <a:srgbClr val="000000"/>
                </a:solidFill>
                <a:latin typeface="Microsoft Sans Serif"/>
              </a:rPr>
              <a:t>실험적인 생리학 →  ‘생물학’ 형성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Before Harvey: 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갈레노스 체계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60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소화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호흡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신경 체계 설명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소화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간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음식물 → 자연의 영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 →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호흡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자연의 영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공기 →  생명의 영 → 동맥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신경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뇌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생명의 영 → 동물의 영 → 신경을 통해 온 몸에 전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심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팽창에 의한 피의 흡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피는 격막을 통해 우→좌 이동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759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베살리우스</a:t>
            </a:r>
            <a:r>
              <a:rPr b="1" lang="ko-KR" sz="3400" spc="-1" strike="noStrike">
                <a:solidFill>
                  <a:srgbClr val="cc0000"/>
                </a:solidFill>
                <a:latin typeface="Microsoft Sans Serif"/>
              </a:rPr>
              <a:t>(Andreas Vesalius, 1514-1564)</a:t>
            </a:r>
            <a:endParaRPr b="1" lang="en-US" sz="34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89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파도바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바젤 대학 등에서 해부학 강의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정밀한 해부로 갈레노스의 오류 지적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인체의 구조에 대하여</a:t>
            </a:r>
            <a:r>
              <a:rPr b="1" lang="ko-KR" sz="2400" spc="-1" strike="noStrike">
                <a:solidFill>
                  <a:srgbClr val="000000"/>
                </a:solidFill>
                <a:latin typeface="Microsoft Sans Serif"/>
              </a:rPr>
              <a:t>&gt;(1543)</a:t>
            </a:r>
            <a:endParaRPr b="1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갈레노스의 오류 지적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해부학을 경험과학으로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</a:rPr>
              <a:t>아름다움 문장과 사실적 그림으로 큰 영향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84640" y="3860640"/>
            <a:ext cx="1900080" cy="273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560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베살리우스의 도판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육체의 정확한 묘사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영혼의 사원인 육체를 신이 어떻게 디자인했는지를 보여주는 것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Sans Serif"/>
              </a:rPr>
              <a:t>영웅적인 형태의 표준적인 남성상을 제시</a:t>
            </a:r>
            <a:endParaRPr b="1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3222720" cy="450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441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베살리우스의 해부학적 발견들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베살리우스의 해부학적 발견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격막의 구멍이 존재하지 않는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좌심실과 동맥에도 혈액이 존재한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정맥에도 혈액이 존재한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동맥이 굉장히 크고 맥박이 뛴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이 심장에 가까워질수록 두터워진다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기타 발견들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콜롬보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정맥의 판막 발견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콜롬보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세르베투스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Microsoft Sans Serif"/>
              </a:rPr>
              <a:t>폐순환 이론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02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</a:t>
            </a: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(William Harvey, 1578-1657)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영국 출생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이탈리아 파도바 대학에서 유학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제임스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세의 궁정의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1628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년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, &lt;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심장과 피의 운동에 대하여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&gt; </a:t>
            </a:r>
            <a:r>
              <a:rPr b="1" lang="ko-KR" sz="2600" spc="-1" strike="noStrike">
                <a:solidFill>
                  <a:srgbClr val="000000"/>
                </a:solidFill>
                <a:latin typeface="Microsoft Sans Serif"/>
              </a:rPr>
              <a:t>발표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70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58128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1268280"/>
            <a:ext cx="4753080" cy="297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5229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하비가 유학했던 이탈리아의 파도바 대학은 베살리우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콜롬보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파브리시우스 등이 해부학 분야에서 명성을 쌓았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따라서 하비는 이 시절 해부학의 이론과 실제에 대한 경험을 풍부하게 쌓을 수 있었다</a:t>
            </a:r>
            <a:r>
              <a:rPr b="0" lang="ko-KR" sz="20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Microsoft Sans Serif"/>
                <a:ea typeface="가는각진제목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하비의 혈액 순환 이론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심장의 기능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수축할 때마다 피를 동맥으로 밀어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정맥의 피를 빨아들이는 것이 아님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Microsoft Sans Serif"/>
              </a:rPr>
              <a:t>정맥에 철사 집어넣는 실험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하루 동안 심장이 내보내는 피의 양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¼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온스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(7g)/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맥박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× 1000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맥박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/30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분 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× 2 × 24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시간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= 336kg (</a:t>
            </a: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적어도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!)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그 많은 혈액은 어디서 왔을까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Sans Serif"/>
              </a:rPr>
              <a:t>혈액은 소멸되지 않고 순환하는 것</a:t>
            </a: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279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Microsoft Sans Serif"/>
              </a:rPr>
              <a:t>결찰사 실험</a:t>
            </a:r>
            <a:endParaRPr b="1" lang="en-US" sz="3800" spc="-1" strike="noStrike">
              <a:solidFill>
                <a:srgbClr val="cc0000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32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동맥</a:t>
            </a: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정맥 모두 막아보기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Microsoft Sans Serif"/>
              </a:rPr>
              <a:t>정맥만 막아보기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icrosoft Sans Serif"/>
              </a:rPr>
              <a:t>Confirming experiment</a:t>
            </a:r>
            <a:endParaRPr b="1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6050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08:41Z</dcterms:modified>
  <cp:revision>28</cp:revision>
  <dc:subject/>
  <dc:title>중세 유럽의 과학</dc:title>
</cp:coreProperties>
</file>